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92E9D-2D0E-49D0-AE54-3E18BFCDB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653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819E5-7296-4101-BD29-D47DE100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653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653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0830F-7276-4992-99EA-EA1DBA3DE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653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653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653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C009A-E88D-4E6D-AE64-3416D571A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56B0-571B-4D6F-81F1-9F8FB05F3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F7DD-1594-49C9-BBA8-A6294450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597B-43CB-4221-99FE-4D53237B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1AC5-9345-4DA5-90AF-408B82D2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C327-A6CA-4E66-87FD-976E0729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0131-58D9-470F-8669-1BB93874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653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7332-EEDE-4E65-90EB-114BEC02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BFAD4-C9A5-4140-A4AE-6683848E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8653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72E2-AFB8-4282-A10B-02526768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653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191D-46EC-4758-B131-02AE665D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8653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0AF0-3C45-476E-91E7-8D72359D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8653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8653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8757-8A88-4DB7-9D47-2B75CD04C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8653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8653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8653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EE87-D132-4ADF-B510-442A8038F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E4593-5B39-4FFE-AE42-E72B87F8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6D50A-BD03-4792-86D3-076A79A3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8DDD7-9BAE-4931-ACCF-EABB35BC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47634-23B9-4E1D-9151-5FA01235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653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0BC12-B8E1-4FD6-B0CB-F53256B9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653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C2794-36EF-45EB-A4DD-2A7DE9A1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653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74A27-C8E1-448F-88CB-5B30017A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C469-4495-4951-A33F-9F6644F622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F59B-3A01-4E49-8397-E1F603C225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ff"/>
                </a:solidFill>
                <a:latin typeface="Arial"/>
              </a:rPr>
              <a:t>THE CONFEDERATION AND THE CONSTITUTION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apter 9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ndmarks In Land Law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of Confed. Congress passed important legislation that dealt with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ld Northw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itory of Ohio Valley ceded by the states to Nat. govern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d Ordinance of 17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ey and S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rthwest Ordinance of 178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nd Ordinance of 17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 Northwest to be sold and the proceeds used to pay off the national deb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survey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divided into townships 6 miles squar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plit into 36 sections of 1 square mile each (640 acr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to be sol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not less than 1$ an ac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Had to buy a minimum of 640 acres (1 section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th section of each township was set aside to be sold with proceeds used for benefit of public scho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rveying the Old Northw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37480" cy="39402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rthwest Ordinance of 1787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ided the land into five areas (Ohio, Illinois, Michigan, Wisconsin and Indian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premise:  Could become states equal to original 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evolutionary territorial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erritory had 60,000 inhabitants, it could draft state Constitution and petition for admission as state by Congr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avery prohib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World’s Ugly Duckl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 a thorn in US side.  How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sed to enter into a trade treat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sed to repeal the navigation La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ut off their West Indian trade from the U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sed to abandon its forts in NW along bord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s st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r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esn’t Congress impose trade restri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in and F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67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in was also hostile to United Stat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Orleans right to deposit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in and South Eastern Ind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uted Terr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 also getting hostile over deb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 African pirates raid our shi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60840" y="1295280"/>
            <a:ext cx="4319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Horrid Specter Of Anarch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mid-1780’s, the economic situation in America was in dire straits. 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’s credit was going ba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 on debt accumulating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not paying their share of tax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. Gov’t bro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robl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s try two things to raise mon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inflation by printing more dollar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e property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ay’s Rebel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y’s Rebe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most freightened by Shay’s Rebellion and other outbrea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ir concer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r of Mobocrac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stronger federal gover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ption that civic virtue not 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ption that civil authority not sufficient to control the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ption that government too closely controlled by the people is ineff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lude to Con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819520" y="1676160"/>
            <a:ext cx="5867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ower did conservatives most want national government to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napolis Convention 178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5 states showed 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ander Hamilton saves with his report calling for a Constitutional Convention the next year to amend the Arti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2171880" cy="26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titutional Conv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ress not eager to call a constitutional conv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ly called a convention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the sole and express purpose of revi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he Articles of Confe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state but Rhode Island chose a representa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5 delegates from 12 states met in Philadelphia on May 25, 178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elected by the state legislatures who themselves were chosen only by landown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sions held in complete secrecy. Wh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s In Society Caused By Revol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odus of loyalists/conserva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atriot eli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ic of “democrac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ins in separation of church and st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ry started to be challe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equality for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ublican Motherho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titutional Conv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e of the Dele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rge Washington was unanimously elected chairm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 Franklin was the elder statesman and the oldest at 8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es Madison dubbed “Father of Constitution” — because of his contributions to the constitu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3319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gates were conservative and well of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ng but experienced states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ed a strong government so that could have unified trade la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ed to stop unrestrained 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racteristics of  Delegat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mmering Out A Bundle Of Compromi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d to completely scrap Articles and start fre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significant issue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State’s Plan (Virginia Pl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State’s Plan (New Jersey Pl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 Compromise (Connecticut Pl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enue B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i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/5 Compro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 Trade Compro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feguards For Conservatis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gates agreed that unbridled democracy should be limit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itution was designed to be a bulwark against Mobocracy. 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eral judges were to be appointed for lif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dent elected indirectly by Electoral Colle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ators to be chosen indirectly by state legisl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 the only part of federal government chosen directly by the peo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ck’s On The Power Of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vo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s of National Government were limit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ould only exercise power in those areas that the constitution specified.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*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ther governmental functions reserved to sta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gners of the Co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54380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deralists And Anti-federalis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mers knew that would be difficult to get national acceptance of the Constit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states necessary to ratif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fication through state conventions.  States themselves decided how delegates to convention se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were many people against the Constit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deralists And Anti-federa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ists support the Co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-Federalists oppose the Co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 of Federalis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ed a strong central govt. and, thus, the Constitu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respectable, mostly propertied people, educ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d in settled areas along seaboard — mostly conserv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e Washington, James Madison, John Marsh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ti-federa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248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 of Anti-Federa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ocates of states’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at strong central government was a threat to individual liber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 country people,  less educated, and illite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a bill of rights to protect the few individual freedoms they h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at state sovereignty was being submerged—It was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705720" y="1752480"/>
            <a:ext cx="20224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1143000"/>
            <a:ext cx="3048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truggle over 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321080" y="0"/>
            <a:ext cx="4632480" cy="66801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rly Emancipation in the Nor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1680" y="1219320"/>
            <a:ext cx="8686800" cy="5329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eat Debate In The Stat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states accepted right away— Delaware (first), Pennsylvania, New Jersey, Georgia, then Connectic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achusetts was 6th but VIP.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land, South Carolina, New Hampshire  n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Hampshire made it official with n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ur Laggard Stat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though Nine had ratified, two most populous states, New York and Virginia, had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states were critical to the new 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York the toughest battle.  Convention had an anti-federalist major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ist papers written to try to turn the tide in New Y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deralist Pap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by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hn Jay, Alexander Hamilton, James Madiso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anonym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5 Federalist papers give lasting insights into the meaning of the constitution by those who drafte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952880" y="1371600"/>
            <a:ext cx="389412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York Ratified in part because of federalist papers, in part because Va. and New York Recognized that it couldn’t go it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 Carolina and Rhode Island, the two cantankerous states, are the last to ratif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Conservative Triump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vereignty still with people, but now checks on mob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d power from the states, where embodied in one strong branch of government, to the national government were embodied equally in three branches of govern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3 branches represent the people, and the system of checks and balances protects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itution as peaceful counter-revolu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titution Making In The St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76, Continental Congress called on colonies to draft new constitu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features of state constitu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ded to represent fundamental la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eliberately had weak executive and judicial branch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legislatures had great pow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legislatures elected 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conomic Crosscurr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mericans worse off econom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away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y state and national deb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 Democ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facturing stimulated.  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Mark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ress of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Shaky Start Towards Un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 was much more a name than a real count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—Bind the 13 states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y didn’t hel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peful sig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gover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257800" y="3200400"/>
            <a:ext cx="3222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ticles of Confed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e of Second Continental Congr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us of Sovereign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776, Congress appointed a committee to draft a written constitution for the new 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icles of Confede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as the resul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ed by Congress in 17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fied by all 13 colonies in 17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stern Land Dispute holds up 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8744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ern Land C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474040" cy="5559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fects in the Arti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cles of Confederation destined for fail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no longer completely independent, but central government had little power over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government dealt only with common affairs such as trade and foreign rel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major defe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2:59:26Z</dcterms:created>
  <dc:creator>John Steere</dc:creator>
  <dc:description/>
  <dc:language>en-US</dc:language>
  <cp:lastModifiedBy>Mark A. Jenkins</cp:lastModifiedBy>
  <dcterms:modified xsi:type="dcterms:W3CDTF">2008-02-20T17:30:14Z</dcterms:modified>
  <cp:revision>15</cp:revision>
  <dc:subject/>
  <dc:title>Slide 1</dc:title>
</cp:coreProperties>
</file>